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485-AED3-4BEE-AB34-128A10BC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6E3-4B9A-4752-9DEB-6DB708E2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DEA-D434-4865-8FAB-7CD4AF0C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E99-22BF-4114-83EF-63614B8A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5369-534D-4ADA-96BE-AF776ECF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26AF-4C08-4843-A94C-9CB53B09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672C-54A5-417F-92AC-501D24EC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FF85-B3EB-499F-B95B-7B9269DF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589E-8BEA-4D75-85D6-29CF2876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683E-AB93-4818-8E56-A71E7E18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FF42-2510-4A4C-8C30-DFF186C1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0CC-3667-4EF1-803B-029B005E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3694-7827-49AD-853E-AFB5BDBB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64E0-ED9D-47CA-8FC6-937B0867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0AE0-2FD0-407C-9269-BC5D0365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8606-F8A0-4F5A-BE86-8C8BE95C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4F0E-111D-44C8-8D3C-06FC90A3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E95-9410-4572-8CF8-AA8587BC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705-8156-4868-BDE5-D0C37839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42E-B987-4172-B693-EC695D3A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A4A-B0BD-49F5-A4C8-138A80F2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66D-2FE0-4F65-944C-06A8F327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64C-9E61-4DCB-B5C8-8AA9C06F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4F8-30CA-4D9F-BD68-C27E4CC6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2F861-53B5-4200-89F8-FA3408C5A27A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69AB1-555B-4122-AD64-E680200F526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CF353-688D-4AFA-A9E1-235CAEE6A966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8355E-3418-4335-AE28-C3881830709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-23760" y="-6480"/>
            <a:ext cx="9174240" cy="2060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ne Gener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Rounded Rectangle 3"/>
          <p:cNvSpPr/>
          <p:nvPr/>
        </p:nvSpPr>
        <p:spPr>
          <a:xfrm>
            <a:off x="1371600" y="3332160"/>
            <a:ext cx="1579680" cy="2736720"/>
          </a:xfrm>
          <a:custGeom>
            <a:avLst/>
            <a:gdLst>
              <a:gd name="textAreaLeft" fmla="*/ 77040 w 1579680"/>
              <a:gd name="textAreaRight" fmla="*/ 1502640 w 1579680"/>
              <a:gd name="textAreaTop" fmla="*/ 77040 h 2736720"/>
              <a:gd name="textAreaBottom" fmla="*/ 2659680 h 2736720"/>
            </a:gdLst>
            <a:ahLst/>
            <a:rect l="textAreaLeft" t="textAreaTop" r="textAreaRight" b="textAreaBottom"/>
            <a:pathLst>
              <a:path w="21600" h="37417">
                <a:moveTo>
                  <a:pt x="3600" y="0"/>
                </a:moveTo>
                <a:arcTo wR="3600" hR="3600" stAng="16200000" swAng="-5400000"/>
                <a:lnTo>
                  <a:pt x="0" y="33817"/>
                </a:lnTo>
                <a:arcTo wR="3600" hR="3600" stAng="10800000" swAng="-5400000"/>
                <a:lnTo>
                  <a:pt x="18000" y="37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Rounded Rectangle 13"/>
          <p:cNvSpPr/>
          <p:nvPr/>
        </p:nvSpPr>
        <p:spPr>
          <a:xfrm>
            <a:off x="1488960" y="3443400"/>
            <a:ext cx="1360440" cy="2193840"/>
          </a:xfrm>
          <a:custGeom>
            <a:avLst/>
            <a:gdLst>
              <a:gd name="textAreaLeft" fmla="*/ 66240 w 1360440"/>
              <a:gd name="textAreaRight" fmla="*/ 1294200 w 1360440"/>
              <a:gd name="textAreaTop" fmla="*/ 66240 h 2193840"/>
              <a:gd name="textAreaBottom" fmla="*/ 2127600 h 2193840"/>
            </a:gdLst>
            <a:ahLst/>
            <a:rect l="textAreaLeft" t="textAreaTop" r="textAreaRight" b="textAreaBottom"/>
            <a:pathLst>
              <a:path w="21600" h="34829">
                <a:moveTo>
                  <a:pt x="3600" y="0"/>
                </a:moveTo>
                <a:arcTo wR="3600" hR="3600" stAng="16200000" swAng="-5400000"/>
                <a:lnTo>
                  <a:pt x="0" y="31229"/>
                </a:lnTo>
                <a:arcTo wR="3600" hR="3600" stAng="10800000" swAng="-5400000"/>
                <a:lnTo>
                  <a:pt x="18000" y="34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4d52"/>
          </a:soli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4481640" y="2376360"/>
            <a:ext cx="3268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reat for Teacher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t your class back on track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egin or end an activit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se to play gam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ultiple tones available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uzzers and whistl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ing ton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opular song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larm sound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vailable for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Phone, iPad,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c OSX, Window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763640" y="5119560"/>
            <a:ext cx="290520" cy="365400"/>
          </a:xfrm>
          <a:prstGeom prst="rect">
            <a:avLst/>
          </a:pr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206800" y="5119560"/>
            <a:ext cx="290160" cy="365400"/>
          </a:xfrm>
          <a:prstGeom prst="rect">
            <a:avLst/>
          </a:prstGeom>
          <a:solidFill>
            <a:srgbClr val="8c3f2c"/>
          </a:soli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3"/>
          <a:stretch/>
        </p:blipFill>
        <p:spPr>
          <a:xfrm>
            <a:off x="1601640" y="3697200"/>
            <a:ext cx="1062360" cy="876240"/>
          </a:xfrm>
          <a:prstGeom prst="rect">
            <a:avLst/>
          </a:prstGeom>
          <a:ln w="0">
            <a:noFill/>
          </a:ln>
        </p:spPr>
      </p:pic>
      <p:sp>
        <p:nvSpPr>
          <p:cNvPr id="90" name="Oval 11"/>
          <p:cNvSpPr/>
          <p:nvPr/>
        </p:nvSpPr>
        <p:spPr>
          <a:xfrm>
            <a:off x="1979640" y="5672160"/>
            <a:ext cx="306360" cy="322200"/>
          </a:xfrm>
          <a:prstGeom prst="ellipse">
            <a:avLst/>
          </a:prstGeom>
          <a:solidFill>
            <a:srgbClr val="4f4d52"/>
          </a:soli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23:12:55Z</dcterms:created>
  <dc:creator>Teacher</dc:creator>
  <dc:description/>
  <dc:language>en-US</dc:language>
  <cp:lastModifiedBy>Teacher</cp:lastModifiedBy>
  <dcterms:modified xsi:type="dcterms:W3CDTF">2010-11-22T23:36:33Z</dcterms:modified>
  <cp:revision>3</cp:revision>
  <dc:subject/>
  <dc:title>Gotcha!</dc:title>
</cp:coreProperties>
</file>